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4DB9-41B8-4AE4-B33A-32E504E9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CD63-D99C-43C3-BBF7-4DAFAC5B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8ED-C95F-4604-B3E3-948BA8BF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30A-A036-4535-B81E-866FABF4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78D-8B1D-4ECE-853F-56525150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C06-9DF3-407D-9072-07F34580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25A-10D1-48EB-8304-88C80533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824-BB1A-4489-A03F-1AC5BD3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766-A411-4DC3-8D29-6A7DBE24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34B-14AC-4BDC-926C-21A65120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3BC-A23E-4019-9A4A-E7AE8827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0CF-8C77-416A-A73A-B47A3790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312-6A59-49F7-A80F-787DCD3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08B-9133-41C8-A236-E66131C1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B127-3D48-4F6F-B848-138496D4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26Z</dcterms:modified>
  <cp:revision>102</cp:revision>
  <dc:subject/>
  <dc:title>Profile</dc:title>
</cp:coreProperties>
</file>